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880" y="263160"/>
            <a:ext cx="8391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0880" y="2953440"/>
            <a:ext cx="83916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080" y="137016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08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1080" y="2953440"/>
            <a:ext cx="40950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1804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5560" y="137016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088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1804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5560" y="2953440"/>
            <a:ext cx="2701800" cy="14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F7AEE07-63DA-4F57-9B2D-804F37FD40B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F646106-7054-4CCB-BC3C-A9F39252EECF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A3CFAE-8577-4B9B-B9BE-0E1A033F633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0"/>
            <a:ext cx="4272120" cy="43862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81E5466-1077-4176-A4A7-0DB6B916F66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06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933DCDC-9124-44B5-8734-A3A21792306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-204840"/>
            <a:ext cx="9144000" cy="17002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4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8059E0E-8AF3-4043-8DEF-3D63773CC757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59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23C2771-34EA-4595-840F-AC5FCBA9CB19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5129280" y="-204840"/>
            <a:ext cx="401472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3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D098127-B228-4638-BE8C-37B344CC9B56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314280" y="0"/>
            <a:ext cx="851544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14280" y="1425600"/>
            <a:ext cx="851544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314280" y="0"/>
            <a:ext cx="4043520" cy="4486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8D25217-5A09-41D8-A9EA-61F39A8F6F5C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17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0D18105-FC88-457C-9C0A-1356CAE8CC2E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4316400" y="0"/>
            <a:ext cx="4827600" cy="154296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4316400" y="1425600"/>
            <a:ext cx="4827600" cy="30607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759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D29A60F-8BEA-4550-9B58-CC30D8A6D1E7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0" y="452520"/>
            <a:ext cx="9144000" cy="57780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2ACCED4-BB12-4121-9AE1-81C301DC95E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41227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650880" y="4424400"/>
            <a:ext cx="1994040" cy="59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0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0F9CD4C-D2B2-4448-89BD-5E9477F0AEA6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traight Connector 1"/>
          <p:cNvSpPr/>
          <p:nvPr/>
        </p:nvSpPr>
        <p:spPr>
          <a:xfrm>
            <a:off x="4572000" y="1370160"/>
            <a:ext cx="0" cy="310644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41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A7B0726-9761-4C53-AA2E-87337CFE1DC5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traight Connector 1"/>
          <p:cNvSpPr/>
          <p:nvPr/>
        </p:nvSpPr>
        <p:spPr>
          <a:xfrm>
            <a:off x="4572000" y="1123920"/>
            <a:ext cx="0" cy="3378240"/>
          </a:xfrm>
          <a:prstGeom prst="line">
            <a:avLst/>
          </a:prstGeom>
          <a:ln w="6480">
            <a:solidFill>
              <a:srgbClr val="0c57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82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AB99991-9CA5-4178-85EE-92DA301D03A4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2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B870C20-500E-4886-BAED-E12AC8B27832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96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14A458A-D7A4-4AB1-ADEB-35E3EEEAA65B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Rectangle 1"/>
          <p:cNvSpPr/>
          <p:nvPr/>
        </p:nvSpPr>
        <p:spPr>
          <a:xfrm>
            <a:off x="0" y="-204840"/>
            <a:ext cx="9144000" cy="464832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D423A62-2B11-4859-BF83-C2770F068072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0" y="0"/>
            <a:ext cx="9144000" cy="40845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4138560"/>
            <a:ext cx="9144000" cy="10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324080" y="1111320"/>
            <a:ext cx="65228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A picture containing font, graphics, text, graphic design&#10;&#10;Description automatically generated"/>
          <p:cNvPicPr/>
          <p:nvPr/>
        </p:nvPicPr>
        <p:blipFill>
          <a:blip r:embed="rId3"/>
          <a:stretch/>
        </p:blipFill>
        <p:spPr>
          <a:xfrm>
            <a:off x="476280" y="4424400"/>
            <a:ext cx="1995480" cy="59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rcRect l="40358" t="-4115" r="-2212" b="26924"/>
          <a:stretch/>
        </p:blipFill>
        <p:spPr>
          <a:xfrm>
            <a:off x="0" y="3206880"/>
            <a:ext cx="2709720" cy="1485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7488AEB-84EE-4925-B49F-312576D6777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98480" y="946080"/>
            <a:ext cx="7547040" cy="2530440"/>
          </a:xfrm>
          <a:prstGeom prst="rect">
            <a:avLst/>
          </a:prstGeom>
          <a:solidFill>
            <a:srgbClr val="0c57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rcRect l="50223" t="-4115" r="-2212" b="43437"/>
          <a:stretch/>
        </p:blipFill>
        <p:spPr>
          <a:xfrm>
            <a:off x="0" y="3344760"/>
            <a:ext cx="2689200" cy="1379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173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A1D5A54-32C7-453E-8FF2-BC6A897ABA81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163F4A3-2433-41A0-BCAD-76140D395648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0" y="1068480"/>
            <a:ext cx="9144000" cy="336384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042FE80-32EB-417C-9D2F-3D1BA97B1CDE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0" y="0"/>
            <a:ext cx="9144000" cy="442260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88880" y="520560"/>
            <a:ext cx="8166240" cy="3381480"/>
          </a:xfrm>
          <a:prstGeom prst="rect">
            <a:avLst/>
          </a:prstGeom>
          <a:solidFill>
            <a:srgbClr val="0c5797"/>
          </a:solidFill>
          <a:ln w="19080">
            <a:solidFill>
              <a:srgbClr val="be0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3"/>
          <a:srcRect l="49848" t="-4115" r="-2212" b="26924"/>
          <a:stretch/>
        </p:blipFill>
        <p:spPr>
          <a:xfrm>
            <a:off x="0" y="3411360"/>
            <a:ext cx="2435400" cy="1576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5C8DBD7-1554-4D99-893D-E198D1389817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be0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A picture containing font, graphics, text, graphic design&#10;&#10;Description automatically generated"/>
          <p:cNvPicPr/>
          <p:nvPr/>
        </p:nvPicPr>
        <p:blipFill>
          <a:blip r:embed="rId2"/>
          <a:stretch/>
        </p:blipFill>
        <p:spPr>
          <a:xfrm>
            <a:off x="380880" y="4622760"/>
            <a:ext cx="1524240" cy="457200"/>
          </a:xfrm>
          <a:prstGeom prst="rect">
            <a:avLst/>
          </a:prstGeom>
          <a:ln w="0">
            <a:noFill/>
          </a:ln>
        </p:spPr>
      </p:pic>
      <p:sp>
        <p:nvSpPr>
          <p:cNvPr id="340" name="Subtitle 2"/>
          <p:cNvSpPr/>
          <p:nvPr/>
        </p:nvSpPr>
        <p:spPr>
          <a:xfrm>
            <a:off x="8379000" y="4729320"/>
            <a:ext cx="393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FFB6BA9-71E2-4A86-A1AC-28C0498EED63}" type="slidenum">
              <a:rPr b="1" lang="en-US" sz="1000" spc="-1" strike="noStrike">
                <a:solidFill>
                  <a:srgbClr val="be0f34"/>
                </a:solidFill>
                <a:latin typeface="Lato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0" y="0"/>
            <a:ext cx="5630760" cy="4443480"/>
          </a:xfrm>
          <a:prstGeom prst="rect">
            <a:avLst/>
          </a:prstGeom>
          <a:solidFill>
            <a:srgbClr val="f8f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5440320" y="0"/>
            <a:ext cx="512640" cy="44434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c5797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880" y="1370160"/>
            <a:ext cx="839160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1444680"/>
            <a:ext cx="7873920" cy="120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Lato Black"/>
              </a:rPr>
              <a:t>CLICK TO ADD TITLE</a:t>
            </a:r>
            <a:endParaRPr b="1" lang="en-US" sz="38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50880" y="2646000"/>
            <a:ext cx="78739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8608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28608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244320" y="730080"/>
            <a:ext cx="52801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650880" y="1111320"/>
            <a:ext cx="7873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Box 1"/>
          <p:cNvSpPr/>
          <p:nvPr/>
        </p:nvSpPr>
        <p:spPr>
          <a:xfrm>
            <a:off x="1844640" y="120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1640" y="252720"/>
            <a:ext cx="4149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1640" y="790200"/>
            <a:ext cx="4149720" cy="32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339480" y="315720"/>
            <a:ext cx="4149720" cy="37544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73080" y="461520"/>
            <a:ext cx="50497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422280" y="112680"/>
            <a:ext cx="3106800" cy="398952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673080" y="1633320"/>
            <a:ext cx="5048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4784400" y="189000"/>
            <a:ext cx="3948120" cy="386064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88520" y="657360"/>
            <a:ext cx="4179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88520" y="1442520"/>
            <a:ext cx="4179960" cy="26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628200" y="361440"/>
            <a:ext cx="3729240" cy="3824280"/>
          </a:xfrm>
          <a:prstGeom prst="rect">
            <a:avLst/>
          </a:prstGeom>
          <a:ln w="0">
            <a:noFill/>
          </a:ln>
        </p:spPr>
      </p:pic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0" y="636480"/>
            <a:ext cx="39434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0" y="1542960"/>
            <a:ext cx="3943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21320" y="636480"/>
            <a:ext cx="42256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621320" y="1727280"/>
            <a:ext cx="4225680" cy="24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297000" y="345600"/>
            <a:ext cx="3813120" cy="41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44000" cy="65088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02840" y="1193400"/>
            <a:ext cx="40942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4646160" y="1193400"/>
            <a:ext cx="4094280" cy="31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28640" y="1603080"/>
            <a:ext cx="76867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728640" y="3016080"/>
            <a:ext cx="76867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16240" y="442404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be0f34"/>
              </a:solidFill>
              <a:latin typeface="Merriweather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216240" y="466848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c5797"/>
              </a:solidFill>
              <a:latin typeface="Arial Black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3216240" y="734760"/>
            <a:ext cx="51991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5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728640" y="1220760"/>
            <a:ext cx="7686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Box 1"/>
          <p:cNvSpPr/>
          <p:nvPr/>
        </p:nvSpPr>
        <p:spPr>
          <a:xfrm>
            <a:off x="2278080" y="1420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-46440" bIns="-4644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63160"/>
            <a:ext cx="8391600" cy="993960"/>
          </a:xfrm>
          <a:prstGeom prst="rect">
            <a:avLst/>
          </a:prstGeom>
          <a:solidFill>
            <a:srgbClr val="0c579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38052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747680" y="1369800"/>
            <a:ext cx="402444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33440" y="274320"/>
            <a:ext cx="82771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83984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83984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33080" y="1150560"/>
            <a:ext cx="3870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33080" y="1569600"/>
            <a:ext cx="387036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9000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880" y="130032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c57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80880" y="577800"/>
            <a:ext cx="8391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0c5797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80880" y="1258560"/>
            <a:ext cx="8391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e0f3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91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300" spc="-1" strike="noStrike">
              <a:solidFill>
                <a:srgbClr val="be0f34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380880" y="1316160"/>
            <a:ext cx="8391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798480" y="1147320"/>
            <a:ext cx="75470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Lato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798480" y="2822040"/>
            <a:ext cx="754704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Merriweather"/>
              <a:ea typeface="Arial Black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12880" y="871560"/>
            <a:ext cx="75182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095120" y="2859120"/>
            <a:ext cx="723564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200" spc="-1" strike="noStrike"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095120" y="3120840"/>
            <a:ext cx="72356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22280" y="488880"/>
            <a:ext cx="4595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c5797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5690880" y="-360"/>
            <a:ext cx="3452760" cy="444348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22280" y="1271520"/>
            <a:ext cx="45957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752640" y="4721040"/>
            <a:ext cx="4678200" cy="255240"/>
          </a:xfrm>
          <a:prstGeom prst="rect">
            <a:avLst/>
          </a:prstGeom>
          <a:noFill/>
          <a:ln w="0">
            <a:noFill/>
          </a:ln>
        </p:spPr>
        <p:txBody>
          <a:bodyPr rIns="0" anchor="ctr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25T16:02:27Z</dcterms:created>
  <dc:creator>JoAnn Antoine</dc:creator>
  <dc:description/>
  <dc:language>en-US</dc:language>
  <cp:lastModifiedBy>Mary Roche</cp:lastModifiedBy>
  <dcterms:modified xsi:type="dcterms:W3CDTF">2023-06-14T17:20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