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5145088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37FB030-1C4D-4BBB-A8B7-83A903C759D0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DA5223D-223A-48FA-91B5-305D4B7D0F89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08CF991-E913-4C3F-8F7A-0687B9691ABA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 flipV="1">
            <a:off x="0" y="0"/>
            <a:ext cx="9144000" cy="11764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6"/>
          <p:cNvSpPr/>
          <p:nvPr/>
        </p:nvSpPr>
        <p:spPr>
          <a:xfrm>
            <a:off x="628560" y="993600"/>
            <a:ext cx="213048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ABA03E4-7C2A-4836-9338-563AE6373AD1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0" y="0"/>
            <a:ext cx="3887640" cy="51436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549360" y="4597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75" name="Straight Connector 7"/>
          <p:cNvSpPr/>
          <p:nvPr/>
        </p:nvSpPr>
        <p:spPr>
          <a:xfrm>
            <a:off x="549360" y="1546200"/>
            <a:ext cx="191592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06D75F6-EC2E-4898-8878-A539E71710CE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0" y="0"/>
            <a:ext cx="3887640" cy="514368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549360" y="4597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518" name="Straight Connector 7"/>
          <p:cNvSpPr/>
          <p:nvPr/>
        </p:nvSpPr>
        <p:spPr>
          <a:xfrm>
            <a:off x="549360" y="1546200"/>
            <a:ext cx="191592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62C2C63-97DC-43AF-9491-0E81B40A1A1C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8535B8B-40FB-424E-A9DA-95BA5DA3EB8E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0E8E262-F241-4336-9A93-7A75A8BEB856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9144000" cy="426420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A purple and blu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623880" y="4448160"/>
            <a:ext cx="1157400" cy="455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ED50E0C-5C6D-44C9-A2FB-E954518C5973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3938760" y="3943440"/>
            <a:ext cx="1266480" cy="50004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1143000" y="2571840"/>
            <a:ext cx="685800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E0FA505-61DE-49DD-8B2C-5FB48A6CD67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9165154-CC07-49B1-9866-AE3D211C402B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731880" y="4572000"/>
            <a:ext cx="890640" cy="35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5AC5C91-D787-4D7C-9E59-B73DA0C2E512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469800" y="330120"/>
            <a:ext cx="8132760" cy="4162680"/>
          </a:xfrm>
          <a:prstGeom prst="rect">
            <a:avLst/>
          </a:prstGeom>
          <a:solidFill>
            <a:srgbClr val="ffffff"/>
          </a:solidFill>
          <a:ln w="127080">
            <a:solidFill>
              <a:srgbClr val="0641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30120" y="3689280"/>
            <a:ext cx="23655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396720" y="43149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F65D643-85CB-439E-A467-66B7A7A50E1C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69800" y="339840"/>
            <a:ext cx="8132760" cy="4162320"/>
          </a:xfrm>
          <a:prstGeom prst="rect">
            <a:avLst/>
          </a:prstGeom>
          <a:solidFill>
            <a:srgbClr val="ffffff"/>
          </a:solidFill>
          <a:ln w="12708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30120" y="3689280"/>
            <a:ext cx="236556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396720" y="43149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F63494B-6F48-4A10-9351-CA945D702D03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0" y="1157400"/>
            <a:ext cx="9144000" cy="398628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23880" y="1527120"/>
            <a:ext cx="7896240" cy="2825640"/>
          </a:xfrm>
          <a:prstGeom prst="rect">
            <a:avLst/>
          </a:prstGeom>
          <a:noFill/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771480" y="4572000"/>
            <a:ext cx="890640" cy="352440"/>
          </a:xfrm>
          <a:prstGeom prst="rect">
            <a:avLst/>
          </a:prstGeom>
          <a:ln w="0">
            <a:noFill/>
          </a:ln>
        </p:spPr>
      </p:pic>
      <p:sp>
        <p:nvSpPr>
          <p:cNvPr id="25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E136797-2D11-41C0-BE42-8F1122D0280C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0E1093B-D1B4-4317-ADF4-05955051C9B2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941560" y="0"/>
            <a:ext cx="6202440" cy="188136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2941560" y="1436760"/>
            <a:ext cx="6202440" cy="370692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7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34383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02" name="Straight Connector 8"/>
          <p:cNvSpPr/>
          <p:nvPr/>
        </p:nvSpPr>
        <p:spPr>
          <a:xfrm>
            <a:off x="3438360" y="1441440"/>
            <a:ext cx="209556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Placeholder 14"/>
          <p:cNvSpPr/>
          <p:nvPr/>
        </p:nvSpPr>
        <p:spPr>
          <a:xfrm>
            <a:off x="5859360" y="4524480"/>
            <a:ext cx="294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B371747-1CE6-4969-8212-47B077C53693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F26CD8F-ADFD-48DB-B17F-824DAC6917A6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" descr="A black and white logo&#10;&#10;Description automatically generated with low confidence"/>
          <p:cNvPicPr/>
          <p:nvPr/>
        </p:nvPicPr>
        <p:blipFill>
          <a:blip r:embed="rId2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1881360"/>
            <a:ext cx="9144000" cy="3262320"/>
          </a:xfrm>
          <a:prstGeom prst="rect">
            <a:avLst/>
          </a:prstGeom>
          <a:solidFill>
            <a:srgbClr val="0c3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0"/>
            <a:ext cx="9144000" cy="1881360"/>
          </a:xfrm>
          <a:prstGeom prst="rect">
            <a:avLst/>
          </a:prstGeom>
          <a:solidFill>
            <a:srgbClr val="a13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623880" y="1881360"/>
            <a:ext cx="480996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8" descr="A black and white logo&#10;&#10;Description automatically generated with low confidence"/>
          <p:cNvPicPr/>
          <p:nvPr/>
        </p:nvPicPr>
        <p:blipFill>
          <a:blip r:embed="rId3"/>
          <a:stretch/>
        </p:blipFill>
        <p:spPr>
          <a:xfrm>
            <a:off x="723960" y="4570560"/>
            <a:ext cx="890640" cy="350640"/>
          </a:xfrm>
          <a:prstGeom prst="rect">
            <a:avLst/>
          </a:prstGeom>
          <a:ln w="0">
            <a:noFill/>
          </a:ln>
        </p:spPr>
      </p:pic>
      <p:sp>
        <p:nvSpPr>
          <p:cNvPr id="348" name="Text Placeholder 14"/>
          <p:cNvSpPr/>
          <p:nvPr/>
        </p:nvSpPr>
        <p:spPr>
          <a:xfrm>
            <a:off x="5859360" y="4524480"/>
            <a:ext cx="26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F681A70-3BAC-417C-91C4-8E970BF7233F}" type="slidenum">
              <a:rPr b="1" lang="en-US" sz="1000" spc="-1" strike="noStrike">
                <a:solidFill>
                  <a:srgbClr val="a13e97"/>
                </a:solidFill>
                <a:latin typeface="Bahnschrift Semi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6417a"/>
                </a:solidFill>
                <a:latin typeface="Rift Bold"/>
              </a:rPr>
              <a:t>Click to edit the title text format</a:t>
            </a: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6417a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3880" y="583920"/>
            <a:ext cx="788688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3880" y="2425680"/>
            <a:ext cx="788688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92680" y="584280"/>
            <a:ext cx="28180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i="1" lang="en-US" sz="1000" spc="-1" strike="noStrike">
              <a:solidFill>
                <a:srgbClr val="ffffff"/>
              </a:solidFill>
              <a:latin typeface="Merriweather Ligh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92680" y="3639600"/>
            <a:ext cx="2818080" cy="2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en-US" sz="1200" spc="-1" strike="noStrike">
              <a:solidFill>
                <a:srgbClr val="ffffff"/>
              </a:solidFill>
              <a:latin typeface="Merriweather"/>
            </a:endParaRPr>
          </a:p>
        </p:txBody>
      </p:sp>
      <p:sp>
        <p:nvSpPr>
          <p:cNvPr id="643" name="Straight Connector 5"/>
          <p:cNvSpPr/>
          <p:nvPr/>
        </p:nvSpPr>
        <p:spPr>
          <a:xfrm>
            <a:off x="623880" y="2311560"/>
            <a:ext cx="409428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21880" y="633600"/>
            <a:ext cx="7426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821880" y="1301760"/>
            <a:ext cx="742644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1880" y="644040"/>
            <a:ext cx="74264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821880" y="1310760"/>
            <a:ext cx="7426440" cy="284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9440" y="743040"/>
            <a:ext cx="2948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85800" y="612720"/>
            <a:ext cx="4388040" cy="378936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9440" y="1669680"/>
            <a:ext cx="29480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9440" y="743040"/>
            <a:ext cx="2948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Rift Bold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4285800" y="612720"/>
            <a:ext cx="4388040" cy="37893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9440" y="1669680"/>
            <a:ext cx="294804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3880" y="649440"/>
            <a:ext cx="78868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ffffff"/>
              </a:solidFill>
              <a:latin typeface="Rif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3880" y="2120760"/>
            <a:ext cx="7886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6417a"/>
              </a:solidFill>
              <a:latin typeface="Rift Bol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274320"/>
            <a:ext cx="7886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28200" y="1369800"/>
            <a:ext cx="38862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628880" y="1369800"/>
            <a:ext cx="38862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8409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43000" y="2701440"/>
            <a:ext cx="68580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Straight Connector 3"/>
          <p:cNvSpPr/>
          <p:nvPr/>
        </p:nvSpPr>
        <p:spPr>
          <a:xfrm>
            <a:off x="1143000" y="2571840"/>
            <a:ext cx="6858000" cy="0"/>
          </a:xfrm>
          <a:prstGeom prst="line">
            <a:avLst/>
          </a:prstGeom>
          <a:ln w="38160">
            <a:solidFill>
              <a:srgbClr val="ec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24240" y="650520"/>
            <a:ext cx="544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Rift Bol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324240" y="1749600"/>
            <a:ext cx="544680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29415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442800"/>
            <a:ext cx="78868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28560" y="1191960"/>
            <a:ext cx="788688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406080"/>
            <a:ext cx="788688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28200" y="1106640"/>
            <a:ext cx="38862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28880" y="1106640"/>
            <a:ext cx="38862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3880" y="369720"/>
            <a:ext cx="788688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71480" y="1685520"/>
            <a:ext cx="7593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30000" y="933120"/>
            <a:ext cx="29494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13e97"/>
              </a:solidFill>
              <a:latin typeface="Rift Bol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87280" y="741240"/>
            <a:ext cx="462924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30000" y="1542960"/>
            <a:ext cx="294948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30000" y="637560"/>
            <a:ext cx="788652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c3a5a"/>
              </a:solidFill>
              <a:latin typeface="Rift Bol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30360" y="1260360"/>
            <a:ext cx="386856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a13e97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0360" y="1879200"/>
            <a:ext cx="386856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28880" y="1260360"/>
            <a:ext cx="388764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a13e97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628880" y="1879200"/>
            <a:ext cx="388764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a13e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6417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4T17:40:08Z</dcterms:created>
  <dc:creator>Mary Roche</dc:creator>
  <dc:description/>
  <dc:language>en-US</dc:language>
  <cp:lastModifiedBy>Mary Roche</cp:lastModifiedBy>
  <cp:lastPrinted>2022-11-17T05:37:45Z</cp:lastPrinted>
  <dcterms:modified xsi:type="dcterms:W3CDTF">2023-09-21T20:01:11Z</dcterms:modified>
  <cp:revision>10</cp:revision>
  <dc:subject/>
  <dc:title>REMAINING NONPARTISAN IN THE AGE OF MIS- AND DIS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E978F74782EAC43B4096357BDBD3C40</vt:lpwstr>
  </property>
</Properties>
</file>